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B702-1373-4473-A7AE-1B12D59B0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7940-2F12-47A1-B215-05ADC5A3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9027-3398-4ED2-A6F3-B558612E5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4120-F863-445C-9FFC-EB69CB90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0B7D-7457-4E77-9ABC-52EEF8CE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CAF8-D417-411E-97A4-96413FEF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220E-3F0D-4774-8132-981B3B9D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29B1-8F82-4721-AD05-5D8D2DBF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E9B5-C232-41BB-B4D3-49ED035C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9D83-DB19-4A22-B6ED-34BB6B39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B400-6A54-40D4-B3E2-C73ECC89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112A-4A3B-4475-9013-076D7B85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129E-2124-4AED-9438-F6C814FE5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4:03:52Z</dcterms:created>
  <dc:creator>INVES-S6600A</dc:creator>
  <dc:description/>
  <dc:language>en-US</dc:language>
  <cp:lastModifiedBy>INVES-S6600A</cp:lastModifiedBy>
  <dcterms:modified xsi:type="dcterms:W3CDTF">2010-11-23T14:04:04Z</dcterms:modified>
  <cp:revision>1</cp:revision>
  <dc:subject/>
  <dc:title>Diapositiva 1</dc:title>
</cp:coreProperties>
</file>